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73F-7B1F-400F-B765-37AB15EE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77C-9493-458F-8E40-617AFCA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C7E-DF58-41FA-A760-EE6CB3B0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0D5-1347-46B3-B2CC-72C75D89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DCA-6340-4A39-A385-07C390D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7A1-D76F-4336-8104-88FF47A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B55-7B49-4BDE-B134-42D7033E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7F4-22E7-405F-A354-F32462BC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9FA-83CA-4AE6-972E-E6A9ED40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118-9544-4B30-A037-A44FB390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C14-D95E-4DC6-ABC1-7FDF5D6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FB1-0548-4722-B74B-9CBCAD4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744B-F0C6-4980-9C32-01C39B452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oeti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e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nds of Po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p--hiss--drip--hiss– fall the raind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aken log which burns, and stea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mokes the ceiling be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p--hiss--the rain never sto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umpet-vine covered an arb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he red and gold of its blossom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 and gold like the brass notes of Trumpe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assed through the gates of the cit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streets were strange and still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doors of the open church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organs were moaning shr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the enchanted ladder of his rhyme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after round and pati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et ever upward clim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, rhyme, consonance, all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nomatopoeia, consonance, repetition, rh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, consonance,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, rhyme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, rhyme, light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word’s pronunciation imitates its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n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e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roo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a word or words for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, my Dear, are away, away, How wearily goes the creeping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ords are arranged in such a way that they make a pattern or 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once was a girl from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yed her hair pink in the bath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wn a solace shut within my he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arden full of many a quaint de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 the words instead of say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ords have the same end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the beginning, end, or middle of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first sounds in words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ed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le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m-pinioned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ow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ep and pa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nson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eat in the middle or end of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near rhy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u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 in on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ill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val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l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a me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put some lines of poetry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ich techniques ar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iteration, consonance, rhythm, rhyme, and onomatopoe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poems use more than one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! To be a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tering on the s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back, but l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eringly the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48:48Z</dcterms:created>
  <dc:creator>D</dc:creator>
  <dc:description/>
  <dc:language>en-US</dc:language>
  <cp:lastModifiedBy>lorettem</cp:lastModifiedBy>
  <dcterms:modified xsi:type="dcterms:W3CDTF">2015-09-29T16:15:07Z</dcterms:modified>
  <cp:revision>8</cp:revision>
  <dc:subject/>
  <dc:title>poetic devices lesson</dc:title>
</cp:coreProperties>
</file>